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entury Gothic"/>
              </a:rPr>
              <a:t>Click to move the slide</a:t>
            </a:r>
            <a:endParaRPr b="0" lang="en-US" sz="4200" spc="-1" strike="noStrike">
              <a:solidFill>
                <a:srgbClr val="f9f9f9"/>
              </a:solidFill>
              <a:latin typeface="Century Gothic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66303-5DB9-4873-8999-06B3681C31D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6BE21-7A5D-44AC-BA70-CF280DC7649E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D80D9-01C9-4A48-8212-D4F2D27FDB73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7E7D7-E47F-462B-8787-34556EC17801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DD717-7121-4129-8F86-7665F2EC57D7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2F6AC-1828-4AC0-98A1-8C7E08F6794D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983EF-DF4A-46A7-A994-B9199ADCECFE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E9FDE-F3BF-43DA-987F-0BE7E53C6CF5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D9A18-D29B-4687-A2DD-B31F438214FA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445A0-36AD-47EF-8FC0-A5AB82AAD0DE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3873B-5265-4DE2-93F1-744470955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7C47F-54C8-418B-A0C2-B186FBF7A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17B8C-1085-4F06-84D4-B5C99B1BC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59549-56A8-443F-A59C-CEAFA4FFE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A548F1-ECE2-4E62-BE26-1CE5BD80E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4F7B67-14D7-4092-B0EF-5F60782B8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B42035-1D67-487D-9FF3-70BD68937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E8E39A-C5B3-4675-AFAF-FE83DFE45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55DF45-4A9D-4F51-89DE-99685D581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FBC991-B799-4B15-A7C1-647DF2F35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Gothic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D375C3-0678-4DCE-A6D6-71D24E0F2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0975C-C7FD-4971-A290-57C796850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D5CF70-6EF1-46BD-A113-2EA647964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1ACF60-D3F4-4C65-A2CA-96CB56700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564D68-A802-40F0-A009-D966C0F3F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Gothic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A73026-2292-4F5E-967D-CC8A1E37D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Gothic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D2F0ED-E35E-407B-869A-1F0A9CBEC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4EAEB0-D1A2-48D0-9FA9-BA5DF56A2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Gothic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B1E42F-A9FE-4D7B-A536-AB86EBCE8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Gothic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6899B8-5247-4F09-9A64-D8B4B5037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Gothic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42987E-E639-4927-83E5-29B59C998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B2C79A-3EF8-47AD-9732-E95A5611F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875F4-EFEE-4249-B58D-D53F28414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95CB0F-3CAB-4959-9AB0-74C936D08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6C90BB-56E2-4822-A3A4-C3E423D13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45474C-EF9F-4E12-9B3C-F4B753F19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Gothic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E488BB-E416-486A-B6B5-51C5F0E90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Gothic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1C3388-DA65-4824-9C2E-AC2DE32FA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F8FC48-56A7-4627-9275-CF8177EE6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E0CFA2-824E-4FC8-B579-5CD2CC6EA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1518B55-231F-408E-9F9C-5AC746FC6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Gothic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690E980-FEEE-4538-9108-F5D3812E1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E6AF7DA-19BF-42B9-9395-8D20BE2EC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7A949-D48B-4082-9C54-375D6CF34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Gothic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B2DD892-4D5F-4377-9FCA-6560D8295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C8ADF2F-1ED0-427F-93C3-6577CFC6E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FFA1BF7-B3C8-4254-81CE-48A90A6BB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B80DFA8-69E5-49BA-927A-439E7394D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Gothic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A876D86-0888-4BF8-9936-904FF5732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CC3BD87-2864-4BB1-A242-15C773B84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45A0459-D8CD-4B81-B9A4-136038AB5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Gothic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13C92D5-36C7-4AEC-B756-214BAF4E5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BC60BDA-C630-42BE-A869-B4EDBBE7B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98EC508-7322-47C6-80D0-74C0A5EE1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C5195-64C8-4B4E-A5D8-4485CE4B8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Gothic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55D4ACC-F6B6-49B5-8FB4-C21927181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Gothic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FDA1949-BBE2-46C2-AA52-B45F05D4C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B9A5E83-C054-42B9-8421-D59F8138A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3DC5D85-FE86-4F66-8553-3E00EC2CE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6F0020F-4808-4171-B39C-CAA6B535D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Gothic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05CD375-C262-4408-A31C-8F0677783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Gothic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AFEDC7A-6D4B-422C-A703-2322A0A9E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4C66B8B-6F48-4D81-ADD4-53E00464B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143B447-ABEA-446C-AEC3-8733AC064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C39D2B8-4E6A-4817-8C8C-CE1F3AA93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E0DDC-9554-4470-BDDF-49BB2EA26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851BB19-DE43-4C52-BD29-8EA68CD70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A786065-3744-4A2D-9B60-0DCBD34CA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Gothic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334AC75-0163-48C4-B831-B674BB14D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Gothic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86079FA-8152-42FC-BC04-43354E78F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Gothic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F0D19F8-C1EA-4B13-A9BC-2E5482D8D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7E6888D-30CD-416D-AD77-4E9AA7523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0A7165C-45C6-45EE-81AB-6494F0CAA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Gothic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CA9AE6D-926B-41F7-9030-9E685F7AF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Gothic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8958644-6C8B-4139-A01C-A697ACADF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8AE0B19-4A5B-466B-B080-651E7CE77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BDDEC-4DA2-42C1-88B8-441328E13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ECBDD10-7F16-497E-9374-1009AE741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Gothic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FE8446B-4A2E-49A3-8E2A-D2E0BE51C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Goth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249E400-FFA0-47C8-A8D5-52C508B10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B1581-6002-48BA-8ADA-AFACA9109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E5DFD-F124-4E26-B633-9FDBB43AB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c66b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759a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2" marL="1004760" indent="-228600">
              <a:spcBef>
                <a:spcPts val="601"/>
              </a:spcBef>
              <a:buClr>
                <a:srgbClr val="7d498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9759a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9759a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4e7e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BA951-5246-4613-A7AE-44930CF30808}" type="slidenum">
              <a:rPr b="0" lang="ru-RU" sz="16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f2e8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Прямая соединительная линия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f2e8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Овал 10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ac66bb"/>
          </a:solidFill>
          <a:ln w="38160">
            <a:solidFill>
              <a:srgbClr val="ac66bb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c66b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759a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2" marL="1004760" indent="-228600">
              <a:spcBef>
                <a:spcPts val="601"/>
              </a:spcBef>
              <a:buClr>
                <a:srgbClr val="7d498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9759a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9759a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entury Gothic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4e7e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87DCF-5341-4649-ADE9-383E328D291A}" type="slidenum">
              <a:rPr b="0" lang="ru-RU" sz="16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c66b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759a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2" marL="1004760" indent="-228600">
              <a:spcBef>
                <a:spcPts val="601"/>
              </a:spcBef>
              <a:buClr>
                <a:srgbClr val="7d498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9759a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9759a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entury Gothic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4e7e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D3856-6379-442C-BA39-372A199DF79D}" type="slidenum">
              <a:rPr b="0" lang="ru-RU" sz="16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f2e8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Прямая соединительная линия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f2e8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c66b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759a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2" marL="1004760" indent="-228600">
              <a:spcBef>
                <a:spcPts val="601"/>
              </a:spcBef>
              <a:buClr>
                <a:srgbClr val="7d498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9759a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9759a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entury Gothic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CD96A-3CEC-49B3-9740-4AAD8D5465CE}" type="slidenum">
              <a:rPr b="0" lang="ru-RU" sz="16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4e7e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c66b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759a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2" marL="1004760" indent="-228600">
              <a:spcBef>
                <a:spcPts val="601"/>
              </a:spcBef>
              <a:buClr>
                <a:srgbClr val="7d498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9759a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9759a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entury Gothic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4e7e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14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A2679-00CB-45A1-8A1E-E33B02A7D391}" type="slidenum">
              <a:rPr b="0" lang="ru-RU" sz="16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ftr" idx="15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c66b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759a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2" marL="1004760" indent="-228600">
              <a:spcBef>
                <a:spcPts val="601"/>
              </a:spcBef>
              <a:buClr>
                <a:srgbClr val="7d498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9759a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9759a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entury Gothic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4e7e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sldNum" idx="17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2BA66-CD54-453C-B39A-968C0895EBE8}" type="slidenum">
              <a:rPr b="0" lang="ru-RU" sz="16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ftr" idx="1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629040" y="456840"/>
            <a:ext cx="2057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800" spc="-1" strike="noStrike">
              <a:solidFill>
                <a:srgbClr val="f4e7ed"/>
              </a:solidFill>
              <a:latin typeface="Century Gothic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68000" y="333000"/>
            <a:ext cx="849636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7000"/>
          </a:bodyPr>
          <a:p>
            <a:pPr indent="0">
              <a:lnSpc>
                <a:spcPct val="1250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d0d0d"/>
                </a:solidFill>
                <a:latin typeface="Century Gothic"/>
              </a:rPr>
              <a:t>                      </a:t>
            </a:r>
            <a:r>
              <a:rPr b="1" lang="ru-RU" sz="3200" spc="-1" strike="noStrike" u="sng">
                <a:solidFill>
                  <a:srgbClr val="002060"/>
                </a:solidFill>
                <a:uFillTx/>
                <a:latin typeface="Century Gothic"/>
              </a:rPr>
              <a:t>Тема проекта: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lnSpc>
                <a:spcPct val="1250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d0d0d"/>
                </a:solidFill>
                <a:latin typeface="Century Gothic"/>
              </a:rPr>
              <a:t>«Мораль сей басни такова…»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lnSpc>
                <a:spcPct val="1250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d0d0d"/>
                </a:solidFill>
                <a:latin typeface="Century Gothic"/>
              </a:rPr>
              <a:t>Иван Андреевич Крылов  - русский баснописец.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lnSpc>
                <a:spcPct val="1250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lnSpc>
                <a:spcPct val="1250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d0d0d"/>
                </a:solidFill>
                <a:latin typeface="Century Gothic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lnSpc>
                <a:spcPct val="1250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d0d0d"/>
                </a:solidFill>
                <a:latin typeface="Century Gothic"/>
              </a:rPr>
              <a:t>                                       </a:t>
            </a:r>
            <a:r>
              <a:rPr b="1" lang="ru-RU" sz="2400" spc="-1" strike="noStrike">
                <a:solidFill>
                  <a:srgbClr val="0d0d0d"/>
                </a:solidFill>
                <a:latin typeface="Century Gothic"/>
              </a:rPr>
              <a:t>предмет: литература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lnSpc>
                <a:spcPct val="1250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d0d0d"/>
                </a:solidFill>
                <a:latin typeface="Century Gothic"/>
              </a:rPr>
              <a:t>                                                          </a:t>
            </a:r>
            <a:r>
              <a:rPr b="1" lang="ru-RU" sz="2400" spc="-1" strike="noStrike">
                <a:solidFill>
                  <a:srgbClr val="0d0d0d"/>
                </a:solidFill>
                <a:latin typeface="Century Gothic"/>
              </a:rPr>
              <a:t>класс: 5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lnSpc>
                <a:spcPct val="1250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61" name="Picture 7" descr="42"/>
          <p:cNvPicPr/>
          <p:nvPr/>
        </p:nvPicPr>
        <p:blipFill>
          <a:blip r:embed="rId1"/>
          <a:stretch/>
        </p:blipFill>
        <p:spPr>
          <a:xfrm>
            <a:off x="171360" y="3724200"/>
            <a:ext cx="3907080" cy="257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Picture 6" descr="фрагменты"/>
          <p:cNvPicPr/>
          <p:nvPr/>
        </p:nvPicPr>
        <p:blipFill>
          <a:blip r:embed="rId1"/>
          <a:srcRect l="0" t="37732" r="0" b="3251"/>
          <a:stretch/>
        </p:blipFill>
        <p:spPr>
          <a:xfrm>
            <a:off x="2916360" y="3375000"/>
            <a:ext cx="6227640" cy="3483000"/>
          </a:xfrm>
          <a:prstGeom prst="rect">
            <a:avLst/>
          </a:prstGeom>
          <a:ln w="0">
            <a:noFill/>
          </a:ln>
        </p:spPr>
      </p:pic>
      <p:sp>
        <p:nvSpPr>
          <p:cNvPr id="263" name="TextBox 2"/>
          <p:cNvSpPr/>
          <p:nvPr/>
        </p:nvSpPr>
        <p:spPr>
          <a:xfrm>
            <a:off x="1023840" y="981000"/>
            <a:ext cx="80535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d0d0d"/>
                </a:solidFill>
                <a:latin typeface="Century Gothic"/>
              </a:rPr>
              <a:t>Основополагающий вопрос проекта</a:t>
            </a:r>
            <a:r>
              <a:rPr b="1" lang="ru-RU" sz="1800" spc="-1" strike="noStrike">
                <a:solidFill>
                  <a:srgbClr val="0d0d0d"/>
                </a:solidFill>
                <a:latin typeface="Century Gothic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d0d0d"/>
                </a:solidFill>
                <a:latin typeface="Century Gothic"/>
              </a:rPr>
              <a:t>Какова роль животных 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d0d0d"/>
                </a:solidFill>
                <a:latin typeface="Century Gothic"/>
              </a:rPr>
              <a:t>в баснях И. А. Крылова?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TextBox 1"/>
          <p:cNvSpPr/>
          <p:nvPr/>
        </p:nvSpPr>
        <p:spPr>
          <a:xfrm>
            <a:off x="1082520" y="981000"/>
            <a:ext cx="7861680" cy="357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d0d0d"/>
                </a:solidFill>
                <a:uFillTx/>
                <a:latin typeface="Century Gothic"/>
              </a:rPr>
              <a:t>Проблемные вопросы: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buClr>
                <a:srgbClr val="0d0d0d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d0d0d"/>
                </a:solidFill>
                <a:latin typeface="Century Gothic"/>
              </a:rPr>
              <a:t>Какие моральные проблемы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d0d0d"/>
                </a:solidFill>
                <a:latin typeface="Century Gothic"/>
              </a:rPr>
              <a:t> </a:t>
            </a:r>
            <a:r>
              <a:rPr b="1" lang="ru-RU" sz="3200" spc="-1" strike="noStrike">
                <a:solidFill>
                  <a:srgbClr val="0d0d0d"/>
                </a:solidFill>
                <a:latin typeface="Century Gothic"/>
              </a:rPr>
              <a:t>в  баснях затрагивает И.А. Крылов?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buClr>
                <a:srgbClr val="0d0d0d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d0d0d"/>
                </a:solidFill>
                <a:latin typeface="Century Gothic"/>
              </a:rPr>
              <a:t>Какие философские, социальные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buClr>
                <a:srgbClr val="0d0d0d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d0d0d"/>
                </a:solidFill>
                <a:latin typeface="Century Gothic"/>
              </a:rPr>
              <a:t> </a:t>
            </a:r>
            <a:r>
              <a:rPr b="1" lang="ru-RU" sz="3200" spc="-1" strike="noStrike">
                <a:solidFill>
                  <a:srgbClr val="0d0d0d"/>
                </a:solidFill>
                <a:latin typeface="Century Gothic"/>
              </a:rPr>
              <a:t>темы рассматривает автор?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buClr>
                <a:srgbClr val="0d0d0d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TextBox 1"/>
          <p:cNvSpPr/>
          <p:nvPr/>
        </p:nvSpPr>
        <p:spPr>
          <a:xfrm>
            <a:off x="1187280" y="620640"/>
            <a:ext cx="53388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c00000"/>
                </a:solidFill>
                <a:uFillTx/>
                <a:latin typeface="Century Gothic"/>
              </a:rPr>
              <a:t>Вопросы учебной темы (частные):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d0d0d"/>
                </a:solidFill>
                <a:latin typeface="Century Gothic"/>
              </a:rPr>
              <a:t>1. Что такое басня?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d0d0d"/>
                </a:solidFill>
                <a:latin typeface="Century Gothic"/>
              </a:rPr>
              <a:t>2. Какие басни написал И.Крылов?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d0d0d"/>
                </a:solidFill>
                <a:latin typeface="Century Gothic"/>
              </a:rPr>
              <a:t>3. Что такое иносказание?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d0d0d"/>
                </a:solidFill>
                <a:latin typeface="Century Gothic"/>
              </a:rPr>
              <a:t>4. Каких баснописцев 18 века вы знаете?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TextBox 1"/>
          <p:cNvSpPr/>
          <p:nvPr/>
        </p:nvSpPr>
        <p:spPr>
          <a:xfrm>
            <a:off x="250920" y="404640"/>
            <a:ext cx="9550440" cy="552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c00000"/>
                </a:solidFill>
                <a:uFillTx/>
                <a:latin typeface="Century Gothic"/>
              </a:rPr>
              <a:t>Дидактические цели проекта: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buClr>
                <a:srgbClr val="0d0d0d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d0d0d"/>
                </a:solidFill>
                <a:latin typeface="Century Gothic"/>
              </a:rPr>
              <a:t>Познакомить детей с  творчеством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d0d0d"/>
                </a:solidFill>
                <a:latin typeface="Century Gothic"/>
              </a:rPr>
              <a:t>   </a:t>
            </a:r>
            <a:r>
              <a:rPr b="1" lang="ru-RU" sz="3200" spc="-1" strike="noStrike">
                <a:solidFill>
                  <a:srgbClr val="0d0d0d"/>
                </a:solidFill>
                <a:latin typeface="Century Gothic"/>
              </a:rPr>
              <a:t>писателя.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d0d0d"/>
                </a:solidFill>
                <a:latin typeface="Century Gothic"/>
              </a:rPr>
              <a:t>2.Расширить  знания о 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d0d0d"/>
                </a:solidFill>
                <a:latin typeface="Century Gothic"/>
              </a:rPr>
              <a:t>   </a:t>
            </a:r>
            <a:r>
              <a:rPr b="1" lang="ru-RU" sz="3200" spc="-1" strike="noStrike">
                <a:solidFill>
                  <a:srgbClr val="0d0d0d"/>
                </a:solidFill>
                <a:latin typeface="Century Gothic"/>
              </a:rPr>
              <a:t>литературном жанре басня.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d0d0d"/>
                </a:solidFill>
                <a:latin typeface="Century Gothic"/>
              </a:rPr>
              <a:t>3.Привит любовь к чтению.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d0d0d"/>
                </a:solidFill>
                <a:latin typeface="Century Gothic"/>
              </a:rPr>
              <a:t>4.Развить умение анализировать 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d0d0d"/>
                </a:solidFill>
                <a:latin typeface="Century Gothic"/>
              </a:rPr>
              <a:t>   </a:t>
            </a:r>
            <a:r>
              <a:rPr b="1" lang="ru-RU" sz="3200" spc="-1" strike="noStrike">
                <a:solidFill>
                  <a:srgbClr val="0d0d0d"/>
                </a:solidFill>
                <a:latin typeface="Century Gothic"/>
              </a:rPr>
              <a:t>литературный текст.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d0d0d"/>
                </a:solidFill>
                <a:latin typeface="Century Gothic"/>
              </a:rPr>
              <a:t>5.Обучит навыку выразительного чтения.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d0d0d"/>
                </a:solidFill>
                <a:latin typeface="Century Gothic"/>
              </a:rPr>
              <a:t>6.Развить творческие способности.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buClr>
                <a:srgbClr val="0d0d0d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Picture 4" descr="http://thumbnail068.mylivepage.com/chunk68/3756900/2687/small_%D1%80%D0%B0%D0%BC%D0%BA%D0%B0%20%D1%88%D0%BA%D0%BE%D0%BB%D1%8C%D0%BD%D0%B0%D1%8F,%D1%83%D1%87%D0%B5%D0%BD%D0%B8%D0%BA%D0%B8%20%D0%B7%D0%B0%20%D0%BF%D0%B0%D1%80%D1%82%D0%BE%D0%B9.png.jpg"/>
          <p:cNvPicPr/>
          <p:nvPr/>
        </p:nvPicPr>
        <p:blipFill>
          <a:blip r:embed="rId1"/>
          <a:stretch/>
        </p:blipFill>
        <p:spPr>
          <a:xfrm>
            <a:off x="395280" y="692280"/>
            <a:ext cx="8353440" cy="5400720"/>
          </a:xfrm>
          <a:prstGeom prst="rect">
            <a:avLst/>
          </a:prstGeom>
          <a:ln w="0">
            <a:noFill/>
          </a:ln>
        </p:spPr>
      </p:pic>
      <p:sp>
        <p:nvSpPr>
          <p:cNvPr id="268" name="TextBox 3"/>
          <p:cNvSpPr/>
          <p:nvPr/>
        </p:nvSpPr>
        <p:spPr>
          <a:xfrm>
            <a:off x="4284720" y="1197000"/>
            <a:ext cx="4859280" cy="28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050"/>
                </a:solidFill>
                <a:latin typeface="Century Gothic"/>
              </a:rPr>
              <a:t>Продолжительность       проекта: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-</a:t>
            </a: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Время выполнения: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               </a:t>
            </a: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2 недели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-Количество часов: 5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-Количество уроко:6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TextBox 1"/>
          <p:cNvSpPr/>
          <p:nvPr/>
        </p:nvSpPr>
        <p:spPr>
          <a:xfrm>
            <a:off x="468360" y="404640"/>
            <a:ext cx="8136000" cy="365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c00000"/>
                </a:solidFill>
                <a:uFillTx/>
                <a:latin typeface="Century Gothic"/>
              </a:rPr>
              <a:t>Представление результатов проекта: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d0d0d"/>
                </a:solidFill>
                <a:latin typeface="Century Gothic"/>
              </a:rPr>
              <a:t>1. Презентация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d0d0d"/>
                </a:solidFill>
                <a:latin typeface="Century Gothic"/>
              </a:rPr>
              <a:t>2. Викторина(кроссворд)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d0d0d"/>
                </a:solidFill>
                <a:latin typeface="Century Gothic"/>
              </a:rPr>
              <a:t>3. Инсценировка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70" name="Picture 4" descr="http://biblioteki.net/foto/1220107254_807.jpg"/>
          <p:cNvPicPr/>
          <p:nvPr/>
        </p:nvPicPr>
        <p:blipFill>
          <a:blip r:embed="rId1"/>
          <a:stretch/>
        </p:blipFill>
        <p:spPr>
          <a:xfrm>
            <a:off x="5580000" y="2708280"/>
            <a:ext cx="3181320" cy="37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TextBox 1"/>
          <p:cNvSpPr/>
          <p:nvPr/>
        </p:nvSpPr>
        <p:spPr>
          <a:xfrm>
            <a:off x="324000" y="333360"/>
            <a:ext cx="85039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d0d0d"/>
                </a:solidFill>
                <a:uFillTx/>
                <a:latin typeface="Century Gothic"/>
              </a:rPr>
              <a:t>Информационные ресурсы: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d0d0d"/>
                </a:solidFill>
                <a:latin typeface="Century Gothic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Жуковский о  баснях Крылова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d0d0d"/>
                </a:solidFill>
                <a:latin typeface="Century Gothic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И.А. Крылов Басни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d0d0d"/>
                </a:solidFill>
                <a:latin typeface="Century Gothic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В.Г. Белинский Басни И.А. Крылова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Прямоугольник 2"/>
          <p:cNvSpPr/>
          <p:nvPr/>
        </p:nvSpPr>
        <p:spPr>
          <a:xfrm>
            <a:off x="4479840" y="2967120"/>
            <a:ext cx="18432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73" name="Прямоугольник 3" descr=""/>
          <p:cNvPicPr/>
          <p:nvPr/>
        </p:nvPicPr>
        <p:blipFill>
          <a:blip r:embed="rId1"/>
          <a:stretch/>
        </p:blipFill>
        <p:spPr>
          <a:xfrm>
            <a:off x="603360" y="152280"/>
            <a:ext cx="8547120" cy="390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4T16:51:38Z</dcterms:created>
  <dc:creator>я</dc:creator>
  <dc:description/>
  <dc:language>en-US</dc:language>
  <cp:lastModifiedBy>я</cp:lastModifiedBy>
  <dcterms:modified xsi:type="dcterms:W3CDTF">2011-04-12T10:42:24Z</dcterms:modified>
  <cp:revision>8</cp:revision>
  <dc:subject/>
  <dc:title>Слайд 1</dc:title>
</cp:coreProperties>
</file>